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wmf" ContentType="image/x-wmf"/>
  <Override PartName="/ppt/media/image8.jpeg" ContentType="image/jpeg"/>
  <Override PartName="/ppt/media/laser.wav" ContentType="audio/x-wav"/>
  <Override PartName="/ppt/media/image4.jpeg" ContentType="image/jpeg"/>
  <Override PartName="/ppt/media/glass.wav" ContentType="audio/x-wav"/>
  <Override PartName="/ppt/media/carbrake.wav" ContentType="audio/x-wav"/>
  <Override PartName="/ppt/media/image3.jpeg" ContentType="image/jpeg"/>
  <Override PartName="/ppt/media/explode.wav" ContentType="audio/x-wav"/>
  <Override PartName="/ppt/media/camera.wav" ContentType="audio/x-wav"/>
  <Override PartName="/ppt/media/image1.wmf" ContentType="image/x-wmf"/>
  <Override PartName="/ppt/media/image2.wmf" ContentType="image/x-wmf"/>
  <Override PartName="/ppt/media/chimes.wav" ContentType="audio/x-wav"/>
  <Override PartName="/ppt/media/image7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F62-660F-49DC-9191-492D2661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FCA-4DFA-491D-BFB4-4CBF8E98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E3C-0B37-409A-A577-8C01EC64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795-D118-4383-904F-CB7C0F34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6E0-DC54-4D4B-96A0-C800CA58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C21-72D6-4644-B20D-AA05D440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DA3-4465-40D1-AEE0-F2C3DD1A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E63-BE27-44C6-8BD0-590439E0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2F7-DB52-48A6-BA71-8476C712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CBF-8AFD-4F17-9C22-44ACBC31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6EB-8D08-446B-A4B9-F876B230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F73-4551-49D4-9B0E-B0B75EDC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2409-A5AE-44DA-B8B6-38FA9806C7B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eakcje zobojętni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Opracowała: mgr Agnieszka Szafr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usimy znać również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zory chemicz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wstałych produktów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dczas tej reak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23880"/>
            <a:ext cx="716256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puśćmy, że użyjem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o reakcji kwasu chlorowodorowego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(solnego) HCl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zasady sodowej Na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HCl + NaO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eraz musimy wiedzieć, co powstan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ma powstać sól i wo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patrz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woda"/>
          <p:cNvPicPr/>
          <p:nvPr/>
        </p:nvPicPr>
        <p:blipFill>
          <a:blip r:embed="rId1"/>
          <a:stretch/>
        </p:blipFill>
        <p:spPr>
          <a:xfrm>
            <a:off x="5486400" y="4267080"/>
            <a:ext cx="2743200" cy="18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KROPELKAgetty2"/>
          <p:cNvPicPr/>
          <p:nvPr/>
        </p:nvPicPr>
        <p:blipFill>
          <a:blip r:embed="rId2"/>
          <a:stretch/>
        </p:blipFill>
        <p:spPr>
          <a:xfrm>
            <a:off x="4038480" y="2133720"/>
            <a:ext cx="223524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olniczka"/>
          <p:cNvPicPr/>
          <p:nvPr/>
        </p:nvPicPr>
        <p:blipFill>
          <a:blip r:embed="rId3"/>
          <a:stretch/>
        </p:blipFill>
        <p:spPr>
          <a:xfrm>
            <a:off x="380880" y="2666880"/>
            <a:ext cx="3581640" cy="271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HCl + NaO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NaCl +H</a:t>
            </a:r>
            <a:r>
              <a:rPr b="0" lang="pl-PL" sz="4400" spc="-1" strike="noStrike" baseline="-2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 prawej i lewej stronie równania mamy tyle samo danych pierwiastk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66320" y="38095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Równanie jest napisane popraw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nny przykład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120" y="22093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tym równaniu po lewej stronie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jest jeden atom potasu, po prawej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są dwa, więc po lewej stronie trzeb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przed wzorem KOH wstawić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8080" y="236232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Teraz liczymy wodory po lewej stronie, są cztery a po prawej są dwa, więc musimy przed wzorem H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O wstawić też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etody otrzymywania s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33523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Jest kilka metod otrzymywania soli, przybliżymy sobie jedną z n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Liczba innych pierwiastków zgadza się po obu stron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Teraz równanie jest </a:t>
            </a:r>
            <a:br>
              <a:rPr sz="4800"/>
            </a:br>
            <a:r>
              <a:rPr b="0" lang="pl-PL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pisane prawidłowo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czy to nie jest pros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"/>
          <p:cNvGraphicFramePr/>
          <p:nvPr/>
        </p:nvGraphicFramePr>
        <p:xfrm>
          <a:off x="3886200" y="3124080"/>
          <a:ext cx="2744640" cy="25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2744640" cy="25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iłego pisania równań chemicznyc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życzę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3809880" y="3048120"/>
          <a:ext cx="4595760" cy="26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048120"/>
                    <a:ext cx="459576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1"/>
          <p:cNvPicPr/>
          <p:nvPr/>
        </p:nvPicPr>
        <p:blipFill>
          <a:blip r:embed="rId1"/>
          <a:stretch/>
        </p:blipFill>
        <p:spPr>
          <a:xfrm>
            <a:off x="2057400" y="1600200"/>
            <a:ext cx="4572000" cy="341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akcje zobojętni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4760" y="41907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o reakcje kwasów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z zasadami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904760" y="22860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o jedna z metod otrzymywania s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ólne równanie otrzymywania soli w reakcji zobojętniania: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5809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was + zasada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sól + w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amiętaj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by napisać poprawnie reakcję chemiczną musisz zna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ubstraty, które będą wchodziły w reakcj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odukty, które powstaną podczas tej reak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bd04924_"/>
          <p:cNvPicPr/>
          <p:nvPr/>
        </p:nvPicPr>
        <p:blipFill>
          <a:blip r:embed="rId1"/>
          <a:stretch/>
        </p:blipFill>
        <p:spPr>
          <a:xfrm>
            <a:off x="5638680" y="2209680"/>
            <a:ext cx="3051360" cy="396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 napisaniu poprawnie równania reakcji musisz dobrać współczynniki stechiometrycz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14440" y="29718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czyli liczby, które znajdują się przed wzorami związków chemicznych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równani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so01038_"/>
          <p:cNvPicPr/>
          <p:nvPr/>
        </p:nvPicPr>
        <p:blipFill>
          <a:blip r:embed="rId1"/>
          <a:stretch/>
        </p:blipFill>
        <p:spPr>
          <a:xfrm>
            <a:off x="685800" y="2971800"/>
            <a:ext cx="2967120" cy="298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rzeba dokładnie policzyć atomy pierwiastków po prawej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po lewej stronie równania, </a:t>
            </a:r>
            <a:r>
              <a:rPr b="1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si być ich tyle samo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pamiętając, że środek równania chemicznego to strzałka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9216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6781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Jeżeli ma reagować kwas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 zasadą to musimy znać wzory tych substancji chemicz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6:48:05Z</dcterms:created>
  <dc:creator>KPCEN</dc:creator>
  <dc:description/>
  <dc:language>en-US</dc:language>
  <cp:lastModifiedBy>Aga</cp:lastModifiedBy>
  <dcterms:modified xsi:type="dcterms:W3CDTF">2014-08-11T20:11:12Z</dcterms:modified>
  <cp:revision>21</cp:revision>
  <dc:subject/>
  <dc:title>Reakcje zobojętniania</dc:title>
</cp:coreProperties>
</file>